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D4E-ECB8-4E54-BD19-7A047EF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87A-6A73-41C4-9581-D2BA80B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DB2-16DA-421B-8878-19BFE27C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EE2-6B9B-42DD-8D29-E49A0CF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4BF-D09D-4496-8D6C-77437A3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34C-D2C8-4FE1-A6FE-191CE9CE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BE4-3D43-4B4D-9363-4A93D46F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232-7F73-42AE-897E-761353E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40A-CE8C-40F6-ACF9-323FEBA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D00-E95B-406C-AAF1-C97649F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EE8-6F11-464F-8571-EABD346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842-6E31-4D8E-AC6A-30F07A1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F9E-86CF-4FF7-A04A-AF13EAC8D3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18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19110"/>
          <p:cNvPicPr/>
          <p:nvPr/>
        </p:nvPicPr>
        <p:blipFill>
          <a:blip r:embed="rId1"/>
          <a:stretch/>
        </p:blipFill>
        <p:spPr>
          <a:xfrm>
            <a:off x="4788000" y="692280"/>
            <a:ext cx="3844800" cy="400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1280" y="260280"/>
            <a:ext cx="3168720" cy="86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Secre-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trunk is big and strong as the school saf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twigs are pointy and sharp as penci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branches swerve like typing fing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leaves rustle like piles of pap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Ann and Paula are nu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 roots are tangled like  telephone wi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 bark shreds like paper in a shredd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And at night the sound of the wind is the sound of Ann and Paula  chatting and drinking coffee while the telephone 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2:04:41Z</dcterms:created>
  <dc:creator>JoyHalford</dc:creator>
  <dc:description/>
  <dc:language>en-US</dc:language>
  <cp:lastModifiedBy>Mac User</cp:lastModifiedBy>
  <dcterms:modified xsi:type="dcterms:W3CDTF">2010-05-31T17:01:05Z</dcterms:modified>
  <cp:revision>4</cp:revision>
  <dc:subject/>
  <dc:title>Slide 1</dc:title>
</cp:coreProperties>
</file>